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555A-5B23-417F-839B-6E3C349E8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AD9-93D5-48D0-9A99-0447EB9F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FD5-7BE6-425C-B411-C4CEB21F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20E-9DF8-4FCD-8F56-A68314E6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A71-23E5-4E3A-B323-60B2128B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B38-56AC-4DE2-B129-DFCAC9BD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C67-F7DB-43BB-B86C-76881895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368-2DA9-49DA-8813-2FFCFF16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DCE-3433-43AF-AAF8-D9FE4C38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CBD-BBFA-4F49-8F4B-B6B8D686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903-263E-4C7E-A681-FD7A5145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563-4AD6-42D5-BC87-BA5DBC1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858-4A4E-49AE-9ABB-4244CD94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6366-116A-4177-9691-371632909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/>
              <a:ahLst/>
              <a:rect l="l" t="t" r="r" b="b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7-01-26T13:55:46Z</dcterms:modified>
  <cp:revision>53</cp:revision>
  <dc:subject/>
  <dc:title>Foundation 1 - Discovering Astronomy</dc:title>
</cp:coreProperties>
</file>